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clap.wav" ContentType="audio/x-wav"/>
  <Override PartName="/ppt/media/image3.wmf" ContentType="image/x-wmf"/>
  <Override PartName="/ppt/media/whoosh.wav" ContentType="audio/x-wav"/>
  <Override PartName="/ppt/media/image4.wmf" ContentType="image/x-wmf"/>
  <Override PartName="/ppt/media/camera.wav" ContentType="audio/x-wav"/>
  <Override PartName="/ppt/media/image5.wmf" ContentType="image/x-wmf"/>
  <Override PartName="/ppt/media/cashreg.wav" ContentType="audio/x-wav"/>
  <Override PartName="/ppt/media/driveby.wav" ContentType="audio/x-wav"/>
  <Override PartName="/ppt/media/projctor.wav" ContentType="audio/x-wav"/>
  <Override PartName="/ppt/media/chimes.wav" ContentType="audio/x-wav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0B3D-D822-491A-862E-11B547D4F1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ill you retur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e trunk being s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ill you retur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e trunk being s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Adve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ies or contradicts a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, not , never, only, scarcely and hard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 two negative adverbs should not be us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Adve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ies or contradicts a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, not , never, only, scarcely and hard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 two negative adverbs should not be us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 can scarcely believe my eyes. ( corr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 haven’t no more sea shells. (incorr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 can scarcely believe my eyes. ( corr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 haven’t no more sea shells. (incorr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ar Adver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do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usual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tainly    hardl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te     so    usually    just  rathe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    rather     fairly    nearly     t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rcely    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ar Adver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do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usual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tainly    hardl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te     so    usually    just  rathe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    rather     fairly    nearly     t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rcely    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 &amp; ADVERB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S TO FO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 &amp; ADVERB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S TO FO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difies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difies 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difies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difies 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OF AN ADJECTI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ells what kind of person, place, or thing.  A noun or a pronoun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y also point out which one or how m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OF AN ADJECTI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ells what kind of person, place, or thing.  A noun or a pronoun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y also point out which one or how m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ip was an English vessel. (what ki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factory is mine. (which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eople enjoy the annual dinner. (how many, which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ip was an English vessel. (what ki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factory is mine. (which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eople enjoy the annual dinner. (how many, which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DVER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ifies an active verb or a verb phrase by expressing manner, place, time, degree, or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DVER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ifies an active verb or a verb phrase by expressing manner, place, time, degree, or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ADVERB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ADVERB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moved quietly. (Manner and tell h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aited there for an hour. (Place and tell whe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ay leave soon. (Time, tells wh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lled you once. (Number, tells how man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at very still. (Degree, tells how mu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moved quietly. (Manner and tell h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aited there for an hour. (Place and tell whe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ay leave soon. (Time, tells wh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lled you once. (Number, tells how man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at very still. (Degree, tells how mu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Adverb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s a sentence that asks a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, when, why and 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Adverb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s a sentence that asks a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, when, why and 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934B-9CEC-4222-872A-507FAADC8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055A-0C0F-438B-94B2-120AA65D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51FE-CCB0-4F1B-91F3-7A00765C8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9B97-D59A-4AEA-8117-F4CDEB37F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4A83-298E-462E-B56B-AFDC37EC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3E37-8991-46F3-AECC-AFECEACE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6FA6-A1B7-4268-87C2-F09267AC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CB48-DCAE-4061-9263-175CAEC1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A7BB-D392-44D7-9C17-A8599876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7960-7F22-4EAB-A136-9DFBA046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828A-9896-4372-8153-4767A2A3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0DCD-299A-407C-891C-3C41412E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06AEE-18FF-493F-B156-70130A02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EDDB-43CC-44B7-B45F-63616B09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21D0-CE99-4CD4-B53F-B13F35AA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FC79-FBCC-44C1-8103-02FBCC2D6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ABD28-52C1-4747-A9D3-B3E9CF504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FEA6-DB7A-4597-BCEA-60E6EB293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1030-3E96-4FC9-82AB-AB947371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D933-35CD-4F84-82AD-7A905E83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13C1-284D-4310-8217-65C5957B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D9F0-FFC7-4377-B9EC-A0573C17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ED29-0C14-47FC-A7CB-029DD95A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445B-CA5A-4649-945E-969796BA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99FE-A95E-47A4-A560-20A1C668B0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0240-FF36-44E1-83F0-925012536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clap.wav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audio" Target="../media/driveby.wav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48002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8" name="Picture 5" descr="pe03254_"/>
          <p:cNvPicPr/>
          <p:nvPr/>
        </p:nvPicPr>
        <p:blipFill>
          <a:blip r:embed="rId1"/>
          <a:stretch/>
        </p:blipFill>
        <p:spPr>
          <a:xfrm>
            <a:off x="3429000" y="838080"/>
            <a:ext cx="268452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rogati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you retur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trunk being s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Negative Adverb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ies or contradicts a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, not , never, only, scarcely and hard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 two negative adverbs should not be used toge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ati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I c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carcel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ieve my eyes. ( corre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I haven’t no more sea shells. (incorre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amiliar Adverbs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o Know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mo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d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usual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rtainly    hardly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te     so    usually    just  rather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    rather     fairly    nearly     to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rcely    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" presetSubtype="8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DJECTIVES &amp; ADVERBS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236196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es 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es Pro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EFINITION OF AN ADJECTIVE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tells what kind of person, place, or thing.  A noun or a pronoun 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may also point out which one or how man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hip was 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nglis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essel. (what ki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actory is mine. (which 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n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enjoy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n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nner. (how many, which 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tn00333_"/>
          <p:cNvPicPr/>
          <p:nvPr/>
        </p:nvPicPr>
        <p:blipFill>
          <a:blip r:embed="rId1"/>
          <a:stretch/>
        </p:blipFill>
        <p:spPr>
          <a:xfrm>
            <a:off x="4114800" y="2362320"/>
            <a:ext cx="1158840" cy="16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N ADVERB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es an active verb or a verb phrase by expressing manner, place, time, degree, or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YPES OF ADVERB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rogati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1066680" y="533520"/>
          <a:ext cx="121932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533520"/>
                    <a:ext cx="12193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 mov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iet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(Manner and tell h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ait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an hour. (Place and tell whe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ay lea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(Time, tells wh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called you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(Number, tells how man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s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ill. (Degree, tells how muc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terrogative Adverb 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es a sentence that asks a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, when, why and h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23:16:01Z</dcterms:created>
  <dc:creator>Tim Williams</dc:creator>
  <dc:description/>
  <dc:language>en-US</dc:language>
  <cp:lastModifiedBy>RomaK</cp:lastModifiedBy>
  <dcterms:modified xsi:type="dcterms:W3CDTF">2015-09-02T09:30:39Z</dcterms:modified>
  <cp:revision>7</cp:revision>
  <dc:subject/>
  <dc:title>adjectives and adverbs</dc:title>
</cp:coreProperties>
</file>